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1FD6-4319-4546-A72C-9ECDE936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0C4-13E9-4CED-889A-09678338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B4F-065D-42D8-A83F-4E478234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D09-4929-4778-9C36-B3C6B441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7E2-7A5E-4813-A393-1A7E8BDA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3EF-282E-4AC2-8C1D-5206B4C8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3AE-21D1-4111-AE0F-BC49C369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B09-8BF7-4BFB-AE15-C22B44CC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66D-4C47-40FE-B809-E6A894E2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08C-90D2-4FA6-A953-18526ABE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07B-8D41-4DD3-890B-D9B9924E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AB8-1653-4AC3-BFA8-EDF0006C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664-2E3A-4A73-A0F7-D1E3640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4FE-6FFE-4C28-8926-3D243AB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2172-A77D-4E66-AB25-EE1821438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oselly Ju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oselly Jua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oselly Jua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oselly Jua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514600" y="190512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Tardes, Yo quiero bailo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alva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 llamo Joselly.  Yo vivo en la ciudad Astoria.  Tengo catorse años.  Yo no tengo hermanos. Soy símpatica y muy perezos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066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962520"/>
            <a:ext cx="41148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! Tengo mucho tarea.  Estoy mucho consada.  Y sí, me encanta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, quiero va al parque? ¿En Serio, tu eres una bailarín?      Amy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90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 está loca.  Yo soy buena bailarín.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971800" y="47242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Hola, cuantos tareas tenemos?                             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s muy fastidioso.                                                                                Yassm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quieres hacer? Estoy aburrido.  ¿Tienes una impresora?            Salv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9320" y="5105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assm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38080" y="60958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5:00:03Z</dcterms:modified>
  <cp:revision>110</cp:revision>
  <dc:subject/>
  <dc:title>Profile</dc:title>
</cp:coreProperties>
</file>